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30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8037-56D7-4F77-ACE7-2DDE4148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1337-53A6-4486-AC9D-4B05BF81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6457-449D-46F2-859F-5067F950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8748-EC18-4589-A18C-B4C2588F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3DF7-9D6F-4A1C-96CE-4A08A827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0206-1EDF-4277-872C-B120A7B0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1B49-17D0-461F-A238-7AE96964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95E2-2502-4B35-8D65-10DE409B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5520-48A5-4982-81B5-51474B3F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797D-7284-4A01-AD87-301106DF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D155-FBC7-433D-AC58-E5596EC3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4104-CABF-4D9A-800D-F09A37BC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B17B-B3CE-4BB2-9C90-70807FB9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5D04-BDF9-40A1-A00F-F8C3B42B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8E2F-6519-4E98-A39F-5B4035D4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E508-5AD0-44AC-AF86-2B210EAE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0472-ED71-4A69-9AD1-481CAB88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FBFD0-E635-43A9-83DD-2F56897A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C6A01-2149-40D3-969A-D388EAD1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69161-2672-4762-9F1A-C110A3AA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3F4BE-B050-415B-A2D9-CB63E44B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C3C48-EE99-4D18-82EE-4C19F4D5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9B93-3F96-4A3C-8DDE-E982846B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DDA7A-0560-4ED2-965F-261DD487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255A7-A1E7-4FFF-8A77-0EACBE55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70AEA-1B68-46BF-AD55-7E957019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FC11F-1C98-454E-A1A4-8384D7B0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634C5-C799-4E14-89AE-69A018C3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FB2DB-83CB-48FA-8B6B-518D4235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F1395-2012-4A64-8A2E-BB11F000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EFB83-D010-40D4-9720-033622E3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A683F-F352-46CF-AE59-5734F0CC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48490-3DC0-4FD5-A501-6F44944C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3F86-2427-405F-9AA5-1D2F41EF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86E9D-0E84-427D-A9AB-B7682C58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234DF-673C-4713-A394-B6718612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4C631-ADB4-44A4-9C42-3707EEB8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1DBB3-D563-4155-9C4C-D4F4F2B1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1948B-8CF6-4A8D-9ABA-947BD19A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DF3D3-0640-4666-80ED-503C7289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1CC56-4321-4D24-AD84-B9FC1ED8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7F6CF-5F2E-4E67-B3BF-A7720EF1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2E1FA-9E65-4916-A757-B5C6C002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16192-3AFF-4FB4-AB30-23FA2BA5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CDA9-9A02-4352-B78A-1A2BA35E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9ED8E-68A7-4780-AA97-857AA66C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6EDD0-88EB-4D75-96FF-3D16205F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ED0E8-9C8E-4730-85F5-5D97A5CD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8923A-D231-4E27-89F1-245370F8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3B2C4-4749-4FDC-88D1-1AF458FA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FDC02-A17A-4B27-AAF4-937FC92C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30836-8889-4483-AC88-D6C1DB68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0B56E-1B2C-45FE-A625-1B12EF30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0B112-FEE3-4A34-AA2F-94946F20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B22D6-2218-40F2-BE0F-CD159A59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0369-6682-4811-8650-06EEA67A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D1661-BFFF-423C-9C66-A447E308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0EF3D-7428-4C3F-8DE1-5784F93E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A6A67-668A-474F-9334-85BCD445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30EB9-FE21-40F3-9311-F13F25D6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68D57-063C-40F0-A364-210AD7F5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80467-0A7D-4545-BB40-AF161CE8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F695C-0078-4D50-BD39-6801FC55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10F15-88DA-4209-B273-FCAE2462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AD4A5-7710-495F-ABF1-DF5C72AB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60547-FBEC-49DF-B6AB-EF335F75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39E1-56AF-484F-85E3-7FFD9C19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5D075-AB04-4F23-AD0A-A807EFE8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B851A-706D-4D4B-9293-92582B23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678DE-D149-4CE0-BBE1-D7342EDC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C7E56-76B9-49AF-AD5B-973803FB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91D26-3554-4D39-A7AF-BFC64A16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95691-0EE6-4A23-AE91-477B5DBF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1030B-5067-4C07-A479-90FA2876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BE080-DE74-40A6-BF84-4B741268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D1064-F6B9-4182-A8B3-0F6551C7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8CC7A-A53E-4EF2-A162-364D6598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A5ED-AF14-4A2A-BFD8-F726BC19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43CE2-D1BD-4BA8-8484-03A2917A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35DF8-A38B-47EE-99C1-F27FF7C1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C2477-6886-4DE9-92F8-9784D064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4FBC3-8E3F-471F-9375-B556199F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16BB0-EBEB-4959-8AEE-DCAFC194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FD751-8455-434C-A83D-7A741A00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3B1B7-B006-4363-8E33-731FFB30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DEF09-F013-4E1F-A19A-2E2A1F19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9BD0A-5D88-4D64-9C78-B5D2AE74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83D93-8C59-409D-AB2C-53782AF0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EB41-1E1E-458C-81A7-57AB461F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B40CC-0CCB-4F77-8DE5-E190627E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A9102-BB5A-4DE2-8366-094935AC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EA011-7B17-49BB-A0C8-F2A918A2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97C5E-4AE0-44A0-A205-FCE9D352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00E9F-9D47-4998-AB50-FB867216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62EE7-56A1-4EA3-B0C0-54E7FB8F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D8172-0E45-4537-A935-ADD519D6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A227-1270-49AC-8F31-7BBB9CC769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0F13-FA99-438B-89B7-8376C94AB2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FF16-6A0A-4647-95F8-93096B7B9B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08B4-0ACE-4C47-8248-7A0DC177FC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AF85-4954-4004-BB0C-87C3462C00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0477-22E7-4926-98EA-3EDDE709BA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A122-73A9-4D80-A7E3-191448AB7D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5926-0D91-48A8-A26D-06771DF525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though the genotypes work out to be 1:1 homozygous dominant to heterozygous, the phenotypes are 100% rou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if the example was two heterozygotes crossing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1905120" y="1523880"/>
          <a:ext cx="6781680" cy="3276720"/>
        </p:xfrm>
        <a:graphic>
          <a:graphicData uri="http://schemas.openxmlformats.org/drawingml/2006/table">
            <a:tbl>
              <a:tblPr/>
              <a:tblGrid>
                <a:gridCol w="815760"/>
                <a:gridCol w="2889360"/>
                <a:gridCol w="3076560"/>
              </a:tblGrid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6" name="Picture 3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816120" cy="6858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"/>
          <p:cNvPicPr/>
          <p:nvPr/>
        </p:nvPicPr>
        <p:blipFill>
          <a:blip r:embed="rId2"/>
          <a:stretch/>
        </p:blipFill>
        <p:spPr>
          <a:xfrm>
            <a:off x="5181480" y="380880"/>
            <a:ext cx="838440" cy="7048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0" descr=""/>
          <p:cNvPicPr/>
          <p:nvPr/>
        </p:nvPicPr>
        <p:blipFill>
          <a:blip r:embed="rId3"/>
          <a:stretch/>
        </p:blipFill>
        <p:spPr>
          <a:xfrm>
            <a:off x="3733920" y="2514600"/>
            <a:ext cx="847440" cy="8002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2" descr=""/>
          <p:cNvPicPr/>
          <p:nvPr/>
        </p:nvPicPr>
        <p:blipFill>
          <a:blip r:embed="rId4"/>
          <a:stretch/>
        </p:blipFill>
        <p:spPr>
          <a:xfrm>
            <a:off x="3809880" y="3809880"/>
            <a:ext cx="885960" cy="743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2" descr=""/>
          <p:cNvPicPr/>
          <p:nvPr/>
        </p:nvPicPr>
        <p:blipFill>
          <a:blip r:embed="rId5"/>
          <a:stretch/>
        </p:blipFill>
        <p:spPr>
          <a:xfrm>
            <a:off x="6705720" y="2590920"/>
            <a:ext cx="885600" cy="7426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6"/>
          <a:stretch/>
        </p:blipFill>
        <p:spPr>
          <a:xfrm>
            <a:off x="6934320" y="3809880"/>
            <a:ext cx="5428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w the genotype ratio is 1:2:1 (homozygous dominant : heterozygous : homozygous recessiv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 the phenotype ratio is 3:1 (round to wrinkle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unnett square is useful at making predictions as we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ever, to be reasonably accurate, the sample size must be quite lar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all the principle of independent assort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haracteristics will segregate their traits separately during gamete formation (gene for plant height not linked to gene for seed colour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nnett squares can show more than one characterist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unnett square of two characterisitcs is called a two-factor cro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del initially attempted this with plants that were true breeding for two different characteristic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ound yellow (RRYY) plants were crossed with wrinkled green (rryy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ever, this merely yielded plants that were round yell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18" descr="p270"/>
          <p:cNvPicPr/>
          <p:nvPr/>
        </p:nvPicPr>
        <p:blipFill>
          <a:blip r:embed="rId1"/>
          <a:stretch/>
        </p:blipFill>
        <p:spPr>
          <a:xfrm>
            <a:off x="1371600" y="762120"/>
            <a:ext cx="6248520" cy="5519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"/>
          <p:cNvPicPr/>
          <p:nvPr/>
        </p:nvPicPr>
        <p:blipFill>
          <a:blip r:embed="rId2"/>
          <a:stretch/>
        </p:blipFill>
        <p:spPr>
          <a:xfrm>
            <a:off x="1447920" y="4343400"/>
            <a:ext cx="590400" cy="5335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"/>
          <p:cNvPicPr/>
          <p:nvPr/>
        </p:nvPicPr>
        <p:blipFill>
          <a:blip r:embed="rId3"/>
          <a:stretch/>
        </p:blipFill>
        <p:spPr>
          <a:xfrm>
            <a:off x="5181480" y="228600"/>
            <a:ext cx="457200" cy="447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"/>
          <p:cNvPicPr/>
          <p:nvPr/>
        </p:nvPicPr>
        <p:blipFill>
          <a:blip r:embed="rId4"/>
          <a:stretch/>
        </p:blipFill>
        <p:spPr>
          <a:xfrm>
            <a:off x="7848720" y="5410080"/>
            <a:ext cx="5904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685440"/>
            <a:ext cx="82296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n, he tried crossing the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ene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se were hybrids for two traits, hence the term “dihybrid” cros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results this time were much differ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4" descr="sb4062f1"/>
          <p:cNvPicPr/>
          <p:nvPr/>
        </p:nvPicPr>
        <p:blipFill>
          <a:blip r:embed="rId1"/>
          <a:stretch/>
        </p:blipFill>
        <p:spPr>
          <a:xfrm>
            <a:off x="1447920" y="0"/>
            <a:ext cx="624816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results were only described in phenoty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9:3:3:1 (round yellow : round green : wrinkled yellow : wrinkled green) was predicted, and Mendel’s experimental results closely matched th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should be noted that genes for different trait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ca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egregate independently, but isn’t guaranteed to (some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a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linke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netics isn’t always as simple as Mendel’s experiment illustra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 traits have more than two alleles (or even multiple genes) and complete dominance often doesn’t exi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netics often comes down to probabi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del stated that traits in an organism are controlled by different facto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e know that each allele is controlled by a unique gene (sequence of nucleotide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inciple of segregation showed individual genes separate during gamete 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allele produced in equal numbers, so equal probability that a gamete with a given allele will make it to fertiliz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some cases, two alleles express themselves equally, but separate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lled codomin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example, alleles for white and red colours in a flower express equally to give a speckled red and white flow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ither allele masks the o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similar to incomplete dominance where both alleles blend to give a combined loo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red and white alleles would express equally to give a pink colo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3352680" cy="3276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4286160" cy="1276200"/>
          </a:xfrm>
          <a:prstGeom prst="rect">
            <a:avLst/>
          </a:prstGeom>
          <a:ln w="0">
            <a:noFill/>
          </a:ln>
        </p:spPr>
      </p:pic>
      <p:sp>
        <p:nvSpPr>
          <p:cNvPr id="420" name="TextBox 5"/>
          <p:cNvSpPr/>
          <p:nvPr/>
        </p:nvSpPr>
        <p:spPr>
          <a:xfrm>
            <a:off x="990720" y="1981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dominan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TextBox 6"/>
          <p:cNvSpPr/>
          <p:nvPr/>
        </p:nvSpPr>
        <p:spPr>
          <a:xfrm>
            <a:off x="4191120" y="1981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TextBox 7"/>
          <p:cNvSpPr/>
          <p:nvPr/>
        </p:nvSpPr>
        <p:spPr>
          <a:xfrm>
            <a:off x="6172200" y="1981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complet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 traits are dictated by more than two alleles (said to have multiple allele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common example of this is blood ty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0866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stly, some traits are controlled by more than one ge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are said to be polygen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uman skin colour is polygen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4" descr="sb4059f1"/>
          <p:cNvPicPr/>
          <p:nvPr/>
        </p:nvPicPr>
        <p:blipFill>
          <a:blip r:embed="rId1"/>
          <a:stretch/>
        </p:blipFill>
        <p:spPr>
          <a:xfrm>
            <a:off x="1371600" y="304920"/>
            <a:ext cx="678168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ossible offspring of sexual reproduction can be shown in a Punnett squ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400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see some offspring with two of the same allele (homozygous – BB or bb), or one of each (heterozygous – Bb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description of their genes is their genotype, whereas the physical characteristic is the phenoty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think: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ype –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s,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otype –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sical characteristic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B -&gt; genoty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rple flower -&gt; phenoty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eed shapes for pea plants have two alleles, round (R – dominant) and wrinkled (r – recessive).  If a homozygous dominant plant is crossed with a heterozygous plant, what is the expected genotypes and phenotypes of the offspring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6858000" y="3962520"/>
            <a:ext cx="779400" cy="7617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3"/>
          <a:stretch/>
        </p:blipFill>
        <p:spPr>
          <a:xfrm>
            <a:off x="6934320" y="5105520"/>
            <a:ext cx="793800" cy="647640"/>
          </a:xfrm>
          <a:prstGeom prst="rect">
            <a:avLst/>
          </a:prstGeom>
          <a:ln w="0">
            <a:noFill/>
          </a:ln>
        </p:spPr>
      </p:pic>
      <p:sp>
        <p:nvSpPr>
          <p:cNvPr id="383" name="TextBox 5"/>
          <p:cNvSpPr/>
          <p:nvPr/>
        </p:nvSpPr>
        <p:spPr>
          <a:xfrm>
            <a:off x="5257800" y="4114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oun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TextBox 6"/>
          <p:cNvSpPr/>
          <p:nvPr/>
        </p:nvSpPr>
        <p:spPr>
          <a:xfrm>
            <a:off x="5181480" y="51055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rinkl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rst, we indentify the homozygous dominant as RR and the heterozygous as R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xt, we fill in the Punnett squ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1905120" y="1523880"/>
          <a:ext cx="6781680" cy="3276720"/>
        </p:xfrm>
        <a:graphic>
          <a:graphicData uri="http://schemas.openxmlformats.org/drawingml/2006/table">
            <a:tbl>
              <a:tblPr/>
              <a:tblGrid>
                <a:gridCol w="815760"/>
                <a:gridCol w="2889360"/>
                <a:gridCol w="3076560"/>
              </a:tblGrid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816120" cy="6858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"/>
          <p:cNvPicPr/>
          <p:nvPr/>
        </p:nvPicPr>
        <p:blipFill>
          <a:blip r:embed="rId2"/>
          <a:stretch/>
        </p:blipFill>
        <p:spPr>
          <a:xfrm>
            <a:off x="5181480" y="380880"/>
            <a:ext cx="838440" cy="7048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0" descr=""/>
          <p:cNvPicPr/>
          <p:nvPr/>
        </p:nvPicPr>
        <p:blipFill>
          <a:blip r:embed="rId3"/>
          <a:stretch/>
        </p:blipFill>
        <p:spPr>
          <a:xfrm>
            <a:off x="3733920" y="2514600"/>
            <a:ext cx="847440" cy="8002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1" descr=""/>
          <p:cNvPicPr/>
          <p:nvPr/>
        </p:nvPicPr>
        <p:blipFill>
          <a:blip r:embed="rId4"/>
          <a:stretch/>
        </p:blipFill>
        <p:spPr>
          <a:xfrm>
            <a:off x="6705720" y="2590920"/>
            <a:ext cx="847440" cy="799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2" descr=""/>
          <p:cNvPicPr/>
          <p:nvPr/>
        </p:nvPicPr>
        <p:blipFill>
          <a:blip r:embed="rId5"/>
          <a:stretch/>
        </p:blipFill>
        <p:spPr>
          <a:xfrm>
            <a:off x="3809880" y="3809880"/>
            <a:ext cx="885960" cy="7430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3" descr=""/>
          <p:cNvPicPr/>
          <p:nvPr/>
        </p:nvPicPr>
        <p:blipFill>
          <a:blip r:embed="rId6"/>
          <a:stretch/>
        </p:blipFill>
        <p:spPr>
          <a:xfrm>
            <a:off x="6781680" y="3733920"/>
            <a:ext cx="88596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02:03:05Z</dcterms:created>
  <dc:creator>ED18</dc:creator>
  <dc:description/>
  <dc:language>en-US</dc:language>
  <cp:lastModifiedBy>ED18</cp:lastModifiedBy>
  <dcterms:modified xsi:type="dcterms:W3CDTF">2010-11-12T14:52:33Z</dcterms:modified>
  <cp:revision>5</cp:revision>
  <dc:subject/>
  <dc:title>Mendelian Genetics</dc:title>
</cp:coreProperties>
</file>